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FE0-50AC-421B-9634-08B8BF42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36F-27AE-4944-B82A-ED59FB21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269-E987-4EC8-85CF-7A1762E0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05E-7DB3-45A8-B014-7834A22B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16EE-325F-40D7-BD7F-09886BEA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9660-A907-45C8-87B0-17787F3E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217F-3B2D-4F73-ADC6-666AE522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1A8B-A50A-4BAE-88EE-A4E3C6B5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D593-B578-45A4-A23D-AD4354E1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6B8A-DD09-4512-9035-D1EB6751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6B35-170F-47F2-A26C-96E02FC8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786-7442-46B0-9725-32954ECB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07C6-D1CD-42E4-944D-7B06F48F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FC89-68E7-46F8-AB7A-C79827F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ACF2-441A-4985-A6FB-3F774DAB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70A0-857F-4D1A-9645-B3CCE74A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B2E9-D4D0-4451-BBF5-26E4773F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E9D8A-3497-48EA-9244-55EDDE81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915D-1149-4E3C-89E2-9D4DE20A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4C914-05C9-4420-97C7-EDF2AFB1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56E5-21DA-4825-BB08-0CF423E1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DEA09-85A8-4B1D-A73C-F84C071E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957-35A8-45D3-B7AF-F592606B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35ED-A80B-4B5E-8B6B-CD2633FF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183C-332A-4427-BF55-F14D5390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F9E0A-9C24-4B1C-BB2E-8B57284D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F9FA-9D9E-4905-9A43-F12B1E70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6967-DAEA-4E0B-91B9-1E4F5D7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00B7-C403-4CA0-977C-41BD6C5E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F2E2-CFE0-4DCD-BA0D-F2D0C366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A281-ABB5-43A5-8930-E939883F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23650-25DC-41C1-BAB9-EDCBD73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12857-4A51-4C84-B6F6-B3497816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0A4-0D13-4CA0-B1FC-47F3F7D5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69FB4-A2DC-454A-B4B7-EFBF461B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7570-11E8-4D35-874E-97FDDE56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0F01F-D3BD-4E8C-99CD-376797F8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546C1-6E57-409C-9C21-C6CD2C3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538A-CFEC-41AB-9B73-EC560326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3535-7ACF-4891-B4AE-85A89AC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CF50-73FD-43D7-A0A9-55C37B31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68E59-73D3-4626-A187-9394BD4D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EE553-172F-48D8-9995-B80E6A9D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D7F-77EE-4E59-AE5F-B687B370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808-60F2-4B20-824E-90DFB82F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1CF-52DC-486C-A802-57400F8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142-A1F4-4F0A-BD34-8AD9B56E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2C9-45F9-430E-B724-BBF27ED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5236-83C7-465B-B051-F99E33CF38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04C4-BD81-441F-97E9-08F7B604C8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F6B2-06F4-4B13-B6A5-7687BBA5435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9E47-C0DF-428B-8577-72873B5456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00980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thinking Pre-College Math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n Washington Colleg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nuary 31,201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3" descr="rpm-logo-enhanced-web.jpg"/>
          <p:cNvPicPr/>
          <p:nvPr/>
        </p:nvPicPr>
        <p:blipFill>
          <a:blip r:embed="rId1"/>
          <a:stretch/>
        </p:blipFill>
        <p:spPr>
          <a:xfrm>
            <a:off x="1828800" y="3187800"/>
            <a:ext cx="55832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s &amp; Announcem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nd Quarter RPM Invoice and Report D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MP/RPM Partners visit the Dana Center Feb 9-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PM Spring Team Event – March 3-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PM faculty biographies (with pictur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room Observ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eaching for Understand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mplex Instruc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Deeper Learning progr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ki upd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ttp://rethinking-precollege-math.wikispaces.com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xt Mee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te and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pics for next quar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edbac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hn Hous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Contact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ject Updates (3-5 minutes per college, 1-2 slid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8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erall Project News &amp; Announce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cussion: How can we as a project community best support and promote faculty learning in the context of the grant agenda and goal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ark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erett Community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ighline Community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wer Columbia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orth Seattle Community Colleg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rthwest Indian Colle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pokane Falls Community Colleg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success/major strength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Biggest challenge/major concerns or issues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ny significant shifts in focus and/or key plans for rest of 2010-11 project year?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Key resource people/materials/tools you’ve found most helpful?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00:58:15Z</dcterms:created>
  <dc:creator>John House</dc:creator>
  <dc:description/>
  <dc:language>en-US</dc:language>
  <cp:lastModifiedBy>jhouse</cp:lastModifiedBy>
  <dcterms:modified xsi:type="dcterms:W3CDTF">2011-01-24T19:03:57Z</dcterms:modified>
  <cp:revision>14</cp:revision>
  <dc:subject/>
  <dc:title>Rethinking Pre-College Math in Washington Colleges</dc:title>
</cp:coreProperties>
</file>